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7F2-FFE1-469E-922C-461006EE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852-B130-4635-B403-F84B4CA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0CA-EA65-4606-9C52-A22AEC2D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D22-C97A-49D4-B9C2-37279DED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F1A4-A3A2-4525-B0BB-61C381B7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F7F0-F231-4BB3-86A7-3968DA76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5638-8A49-4A1C-A728-96F798FD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351C-777F-4B90-9C0D-FC7D24B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2E94-0392-4E18-9984-6AD8BDFD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9BD4-CD59-4BA9-92B6-2E4EAB43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516C-F2E9-4901-AFF3-157D2DE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EBE-101C-44DE-9C94-2A67047B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A54-1FCE-4F4C-96EC-4D7A1110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2792-0F42-4B83-97DB-887D6AD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478E-792F-46BE-9441-71CFBD6F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75E3-4C92-4930-8001-B7A4F3AA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AA5-C2D6-4850-8507-25A9926A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4A1-B2AE-4B83-927F-B611413C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03A-BB8C-4424-AC39-43D1E1F2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98F-9D75-41F3-A231-8B1DB49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041-EB43-4CC4-B95F-B9C31AAD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06A-0F15-441B-B5AC-469915A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7B7-01B3-409D-8952-AD053907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1D5-BD46-41CE-9D3D-BF01DD8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A881-1442-4614-8215-7DE9CDA3AE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45C7-2D0B-4BFE-9EC4-BB7422844C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0"/>
            <a:ext cx="78483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washshah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Ay, quien me diera esa cierva que 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su mejilla una rosa entre sierp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unqu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us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ánguidos ojos me hiere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allo consuelo en su talle gallar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 en su esbeltez, si me ayudan mis h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se, rendido, a sus pies mi mejill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o crecióse en orgullo y mali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dijo, al ver que mi llanto corr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«¿Dónde aprendiste ese amor extremado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ije: · En tus ojos lección he tomado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08000" y="404640"/>
            <a:ext cx="57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89000"/>
            <a:ext cx="6337440" cy="9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 replicó, y me dejó de una pieza «¿En acusar a mis ojos no cejas?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- le corté -, no por Dios, no te ofen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No he de mentar, si no quieres, mi agrav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a soy muslim convertido, y no m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Tú, cuyos ojos al ciervo le afrenta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que a la hurí con tu talle super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cuya luz a las vistas aneg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Credo secreto. es tu amor, y es, ar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e de tenerlo por siempre guardado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260280"/>
            <a:ext cx="9144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Oh tú más bello de todos los ser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 corazón va en pos tuyo, y no vu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Óyele cuando de ausencia se du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GAR KOM LEBARE DAL-GAIBA NON T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YA WELIYOS DE L ASIQA, SIN NON 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Í CÓMO SOPORTAR ESTA AUSENCIA. ¡NO TAN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AY DE LOS OJOS DE LA ENAMORADA, SI NO ESTÁS T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47:02Z</dcterms:created>
  <dc:creator> </dc:creator>
  <dc:description/>
  <dc:language>en-US</dc:language>
  <cp:lastModifiedBy>-</cp:lastModifiedBy>
  <dcterms:modified xsi:type="dcterms:W3CDTF">2008-10-06T23:25:36Z</dcterms:modified>
  <cp:revision>5</cp:revision>
  <dc:subject/>
  <dc:title>Diapositiva 1</dc:title>
</cp:coreProperties>
</file>